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ACD-A6FF-401D-AE18-F7C102FA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E00-4677-4EB9-A8EC-060EAC15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F1C-96AC-4401-8F46-9E2C1AEB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BE9-6F45-4DB0-8BB1-4A96BD87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E9E-512C-4F56-85AA-9E438C5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38A-0B6D-44EC-A070-55C3B70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928-B75F-4441-AD7A-21B508C8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4FB-6825-4B83-95BE-C8F70104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ECF-407E-45B2-8C77-F1552BAB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FDF-0B3B-43C1-88A3-C790B05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365-968A-4934-AA05-B65A77B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6B5-8E3C-429E-B7F3-C76848B1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273E-D910-4EF8-869F-C754CF95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250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Phonologica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sp>
        <p:nvSpPr>
          <p:cNvPr id="42" name=""/>
          <p:cNvSpPr/>
          <p:nvPr/>
        </p:nvSpPr>
        <p:spPr>
          <a:xfrm>
            <a:off x="287280" y="144360"/>
            <a:ext cx="6310440" cy="874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53000" y="250920"/>
            <a:ext cx="1925640" cy="153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3360" y="12589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words and letter combinations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8532720"/>
            <a:ext cx="18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les of the Spe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25360" y="468360"/>
            <a:ext cx="338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Etymologica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sp>
        <p:nvSpPr>
          <p:cNvPr id="47" name=""/>
          <p:cNvSpPr/>
          <p:nvPr/>
        </p:nvSpPr>
        <p:spPr>
          <a:xfrm>
            <a:off x="289080" y="289080"/>
            <a:ext cx="6308640" cy="8604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69000" y="395280"/>
            <a:ext cx="1541160" cy="154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0280" y="1476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here words have traditionally come f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8532720"/>
            <a:ext cx="18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les of the Spe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07920" y="25092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orphemic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216000"/>
            <a:ext cx="6381720" cy="874872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4640" y="125892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How words can be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97360" y="324000"/>
            <a:ext cx="1650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n = runn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21000" y="1116000"/>
            <a:ext cx="21718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9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sual = unusu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21000" y="1763640"/>
            <a:ext cx="2181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nd = land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8545680"/>
            <a:ext cx="18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les of the Spe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9000" y="217440"/>
            <a:ext cx="6524640" cy="86756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81000" y="468360"/>
            <a:ext cx="38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Visua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41720" y="539640"/>
            <a:ext cx="1511640" cy="1506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0280" y="11872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How words and letter combinations l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8532720"/>
            <a:ext cx="18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les of the Spe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6:46:35Z</dcterms:created>
  <dc:creator> Kate Parry-Ewing</dc:creator>
  <dc:description/>
  <dc:language>en-US</dc:language>
  <cp:lastModifiedBy> Kate Parry-Ewing</cp:lastModifiedBy>
  <dcterms:modified xsi:type="dcterms:W3CDTF">2009-09-08T06:49:40Z</dcterms:modified>
  <cp:revision>1</cp:revision>
  <dc:subject/>
  <dc:title>Slide 1</dc:title>
</cp:coreProperties>
</file>